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.png" ContentType="image/png"/>
  <Override PartName="/ppt/media/image2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10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25A2-DC88-4F1C-8A5B-6B231AB08128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E73-A6F6-41CE-9A4E-E26C8189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DF6-0ECC-4074-A6B5-A076C777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F3E-A7C5-4F16-8A3E-343787DE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02D-D027-48EB-BDBC-DBEE622C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0F5D-B122-47AE-93EA-FDC0201B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934-8245-4EFE-95F1-9CD40434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BD7C-1B84-4197-9813-7E27EF2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6937-0073-46BE-9C87-1ACB860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3C4D-C74B-4508-B4E0-4E75AFB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EB0-6666-4767-8EF3-85AF5DC1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57C-5518-4179-BC19-5AA5465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B87-CDBB-492C-853B-6401CCE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6DB-7363-4B38-AD25-09FA5A4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7F45-6B07-459A-BF0D-32F1513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B85-F458-431F-85AF-838F97A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128-9B46-498B-9D66-2A922A1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EEBE-233B-458D-A535-B0AA5332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798-985E-48CA-8ADA-1BABB6B5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2B5-90BE-48C6-AC55-C13FF270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236-48DD-4BE3-BAE4-617887E9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B6E-6B52-4EF9-A046-C6AE437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D7B-063B-4A65-B13D-376090B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B13-1BA9-4CBF-84E1-4F54A44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DC2-DF95-4337-A62F-CA7970F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605-C7F2-44FB-B19A-AC4D90F37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999-F877-4058-9307-B1B1D4E71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xocm.chat.ru/plus/raznoe.html" TargetMode="External"/><Relationship Id="rId2" Type="http://schemas.openxmlformats.org/officeDocument/2006/relationships/hyperlink" Target="http://xocm.chat.ru/plus/raznoe.html" TargetMode="External"/><Relationship Id="rId3" Type="http://schemas.openxmlformats.org/officeDocument/2006/relationships/hyperlink" Target="http://xocm.chat.ru/plus/raznoe.html" TargetMode="External"/><Relationship Id="rId4" Type="http://schemas.openxmlformats.org/officeDocument/2006/relationships/hyperlink" Target="http://xocm.chat.ru/plus/raznoe.html" TargetMode="External"/><Relationship Id="rId5" Type="http://schemas.openxmlformats.org/officeDocument/2006/relationships/hyperlink" Target="http://xocm.chat.ru/plus/raznoe.html" TargetMode="External"/><Relationship Id="rId6" Type="http://schemas.openxmlformats.org/officeDocument/2006/relationships/hyperlink" Target="http://xocm.chat.ru/plus/raznoe.html" TargetMode="External"/><Relationship Id="rId7" Type="http://schemas.openxmlformats.org/officeDocument/2006/relationships/hyperlink" Target="http://xocm.chat.ru/plus/raznoe.html" TargetMode="External"/><Relationship Id="rId8" Type="http://schemas.openxmlformats.org/officeDocument/2006/relationships/hyperlink" Target="http://xocm.chat.ru/plus/raznoe.html" TargetMode="External"/><Relationship Id="rId9" Type="http://schemas.openxmlformats.org/officeDocument/2006/relationships/hyperlink" Target="http://xocm.chat.ru/plus/raznoe.html" TargetMode="External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3300"/>
                </a:solidFill>
                <a:latin typeface="Monotype Corsiva"/>
              </a:rPr>
              <a:t>Тема роботи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00080"/>
                </a:solidFill>
                <a:latin typeface="Monotype Corsiva"/>
              </a:rPr>
              <a:t>Визначення</a:t>
            </a:r>
            <a:r>
              <a:rPr b="1" i="1" lang="ru-RU" sz="4000" spc="-1" strike="noStrike">
                <a:solidFill>
                  <a:srgbClr val="800080"/>
                </a:solidFill>
                <a:latin typeface="Monotype Corsiva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800080"/>
                </a:solidFill>
                <a:latin typeface="Monotype Corsiva"/>
              </a:rPr>
              <a:t>вмісту</a:t>
            </a:r>
            <a:r>
              <a:rPr b="1" i="1" lang="ru-RU" sz="4000" spc="-1" strike="noStrike">
                <a:solidFill>
                  <a:srgbClr val="800080"/>
                </a:solidFill>
                <a:latin typeface="Monotype Corsiva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800080"/>
                </a:solidFill>
                <a:latin typeface="Monotype Corsiva"/>
              </a:rPr>
              <a:t>аскорбінової кислоти </a:t>
            </a:r>
            <a:r>
              <a:rPr b="1" i="1" lang="ru-RU" sz="4000" spc="-1" strike="noStrike">
                <a:solidFill>
                  <a:srgbClr val="800080"/>
                </a:solidFill>
                <a:latin typeface="Monotype Corsiva"/>
                <a:ea typeface="Times New Roman"/>
              </a:rPr>
              <a:t> в </a:t>
            </a:r>
            <a:r>
              <a:rPr b="1" i="1" lang="uk-UA" sz="4000" spc="-1" strike="noStrike">
                <a:solidFill>
                  <a:srgbClr val="800080"/>
                </a:solidFill>
                <a:latin typeface="Monotype Corsiva"/>
              </a:rPr>
              <a:t>продуктах</a:t>
            </a:r>
            <a:r>
              <a:rPr b="1" i="1" lang="ru-RU" sz="4000" spc="-1" strike="noStrike">
                <a:solidFill>
                  <a:srgbClr val="800080"/>
                </a:solidFill>
                <a:latin typeface="Monotype Corsiva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800080"/>
                </a:solidFill>
                <a:latin typeface="Monotype Corsiva"/>
              </a:rPr>
              <a:t>рослинниц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14680" y="1981080"/>
            <a:ext cx="30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0"/>
            <a:ext cx="7391520" cy="2057400"/>
          </a:xfrm>
          <a:prstGeom prst="horizont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00"/>
                </a:solidFill>
                <a:latin typeface="Arial Black"/>
              </a:rPr>
              <a:t>Хімічні метод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00"/>
                </a:solidFill>
                <a:latin typeface="Arial Black"/>
              </a:rPr>
              <a:t>визначення вітаміні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666880"/>
            <a:ext cx="3581280" cy="83844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Хроматограф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276720"/>
            <a:ext cx="3581640" cy="838080"/>
          </a:xfrm>
          <a:prstGeom prst="beve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00"/>
                </a:solidFill>
                <a:latin typeface="Comic Sans MS"/>
              </a:rPr>
              <a:t>Колориметр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800600"/>
            <a:ext cx="3581280" cy="83808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00"/>
                </a:solidFill>
                <a:latin typeface="Comic Sans MS"/>
              </a:rPr>
              <a:t>Йодометр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343400"/>
            <a:ext cx="3581280" cy="83808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00"/>
                </a:solidFill>
                <a:latin typeface="Comic Sans MS"/>
              </a:rPr>
              <a:t>Спектрофотометр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9900"/>
                </a:solidFill>
                <a:latin typeface="Lucida Console"/>
              </a:rPr>
              <a:t>Йодометрія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Йодометрія належить до найбільш точних окисно-відновних методів об'ємного аналізу. В  його основі лежить реакція перетворення вільного йоду в аніони йоду при участі відновник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ількісного визначення вільного йоду в розчині по методу йодометрії використовують реакцію його з тіосульфатом натрію Na</a:t>
            </a:r>
            <a:r>
              <a:rPr b="0" lang="uk-UA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uk-UA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uk-UA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144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Иодометрия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31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22680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Визначення вмісту</a:t>
            </a:r>
            <a:r>
              <a:rPr b="0" lang="uk-UA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uk-UA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аскорбінової кислоти в екстракті фруктів</a:t>
            </a: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ідставі середньої величини титрування кількість вітаміну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начають  за формул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ер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(екст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∙ Т ∙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(ві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мат.) 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екст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(віт) – вміст  аскорбінової кислоти (у мг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’єм розчину йоду, що пішов на титр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(екст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’єм екстракту (м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титр й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мат.) – маса досліджуваного матеріалу (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uk-UA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екст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’єм розчину екстракту для титрування (мл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2971800"/>
            <a:ext cx="236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3048120"/>
            <a:ext cx="236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048120"/>
            <a:ext cx="2666880" cy="412560"/>
          </a:xfrm>
          <a:custGeom>
            <a:avLst/>
            <a:gdLst/>
            <a:ahLst/>
            <a:rect l="l" t="t" r="r" b="b"/>
            <a:pathLst>
              <a:path w="1680" h="260">
                <a:moveTo>
                  <a:pt x="0" y="0"/>
                </a:moveTo>
                <a:lnTo>
                  <a:pt x="104" y="260"/>
                </a:lnTo>
                <a:lnTo>
                  <a:pt x="1680" y="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30481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0481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0481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3300"/>
                </a:solidFill>
                <a:latin typeface="Comic Sans MS"/>
              </a:rPr>
              <a:t>Мої дослідженн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390840" cy="4114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Як досліджуваний матеріал я використовував плоди яблук різних сортів, апельсина, лимона, мандарина і бан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7664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3300"/>
                </a:solidFill>
                <a:latin typeface="Comic Sans MS"/>
              </a:rPr>
              <a:t>А також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досліджував вміст аскорбінової кислоти в консервованому соку яблук і порівняв отриманні данні з свіжім сок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14760" y="1981080"/>
            <a:ext cx="281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cc"/>
                </a:solidFill>
                <a:latin typeface="Comic Sans MS"/>
              </a:rPr>
              <a:t>Результати дослідження</a:t>
            </a:r>
            <a:br>
              <a:rPr sz="4400"/>
            </a:br>
            <a:r>
              <a:rPr b="1" lang="uk-UA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Вміст вітаміну С в 100 г плодів (мг/100г)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981080"/>
          <a:ext cx="755172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55172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40" y="1631880"/>
            <a:ext cx="914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27360"/>
            <a:ext cx="74674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3300"/>
                </a:solidFill>
                <a:latin typeface="Comic Sans MS"/>
              </a:rPr>
              <a:t>Далі: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660066"/>
                </a:solidFill>
                <a:latin typeface="Comic Sans MS"/>
              </a:rPr>
              <a:t>З використовуваних плодів я приготував відвар – 10 г плодів на 100 г води.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660066"/>
                </a:solidFill>
                <a:latin typeface="Comic Sans MS"/>
              </a:rPr>
              <a:t>Йодометричним титруванням визначив вміст аскорбінової кислоти після теплової обробки фрук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cc"/>
                </a:solidFill>
                <a:latin typeface="Comic Sans MS"/>
              </a:rPr>
              <a:t>Результати дослідження</a:t>
            </a:r>
            <a:br>
              <a:rPr sz="4400"/>
            </a:br>
            <a:r>
              <a:rPr b="1" i="1" lang="uk-UA" sz="2000" spc="-1" strike="noStrike">
                <a:solidFill>
                  <a:srgbClr val="660066"/>
                </a:solidFill>
                <a:latin typeface="Arial"/>
              </a:rPr>
              <a:t>Вміст вітаміну С в 100 г плодів</a:t>
            </a:r>
            <a:br>
              <a:rPr sz="2000"/>
            </a:br>
            <a:r>
              <a:rPr b="1" i="1" lang="uk-UA" sz="2000" spc="-1" strike="noStrike">
                <a:solidFill>
                  <a:srgbClr val="660066"/>
                </a:solidFill>
                <a:latin typeface="Arial"/>
              </a:rPr>
              <a:t>після теплової обробки (мг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</a:t>
            </a:r>
            <a:r>
              <a:rPr b="1" i="1" lang="uk-UA" sz="2000" spc="-1" strike="noStrike">
                <a:solidFill>
                  <a:srgbClr val="660066"/>
                </a:solidFill>
                <a:latin typeface="Arial"/>
              </a:rPr>
              <a:t>100г)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205740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00"/>
                </a:solidFill>
                <a:latin typeface="Comic Sans MS"/>
              </a:rPr>
              <a:t>Порівняємо: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-4752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8400" y="1752480"/>
          <a:ext cx="575280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752480"/>
                    <a:ext cx="57528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83556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3300"/>
                </a:solidFill>
                <a:latin typeface="Comic Sans MS"/>
              </a:rPr>
              <a:t>Я зробив висновки: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міст вітаміну С в яблуках залежить від сорт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міст аскорбінової кислоти в консервованому соку  яблук більше, ніж у свіжому. Це свідчить про те, що в консервований сік додають аскорбінову кислот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76640" y="2516040"/>
          <a:ext cx="369576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6640" y="2516040"/>
                    <a:ext cx="369576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6526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3300"/>
                </a:solidFill>
                <a:latin typeface="Monotype Corsiva"/>
              </a:rPr>
              <a:t>Знайомство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Роботу викон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слухач Скадовс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відділення хімічної секції 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учень 11 Б класу Скадовської загальноосвітньої школи 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 – III </a:t>
            </a: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ступенів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omic Sans MS"/>
              </a:rPr>
              <a:t>Сипко Серг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0337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3695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більший вміст вітаміну С виявлено в  апельсині та лим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П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и термічній обробці втрачається багато вітаміну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вочі і фрукти врожаю минулого року до весни втрачають значну частину вітаміну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076640" y="1066680"/>
            <a:ext cx="3695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Відомо, що добова потреба людини у вітаміні С – 100 мг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і  дослідження дозволяють зробити висновок, що  необхідно вживати не менш ніж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0-700 г яблу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б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г  апельсин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б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00 г банан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б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0 г лимон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доб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640" y="2057400"/>
            <a:ext cx="340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Література</a:t>
            </a: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урихин И.М., Нечаев А.П. Всё о пище с точки зрения хим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/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«Высшая школа» 1991г.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ае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.П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аубенбергС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кочетков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.А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паков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.В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ищев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я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/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анкт-Петербург, издательство-ГИОРД, 2001 г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сайт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3"/>
              </a:rPr>
              <a:t>xocm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5"/>
              </a:rPr>
              <a:t>chat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6"/>
              </a:rPr>
              <a:t>.ru/plus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7"/>
              </a:rPr>
              <a:t>raznoe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  <a:hlinkClick r:id="rId9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ллипович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Ю.В., . Егоров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. А, Севастьянов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. А. Практикум по общей химии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«Просвещение» 1982 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кресенский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. И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еймар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. М. Основы химического анализа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сква «Просвещение» 197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кум по аналитической химии, под ред. Пономарев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. Д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Ивановой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. И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сква «Высшая школа» 198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верюхина Т.В.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емов В.В. Исследование пищевых продуктов. //Химия в школе.-2000. №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якин Ю.В., Ангелов И.И. Чистые химические вещества. М.: «Химия», 1974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556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cc3300"/>
                </a:solidFill>
                <a:latin typeface="Monotype Corsiva"/>
              </a:rPr>
              <a:t>Здоров'я ВАМ!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8514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Comic Sans MS"/>
              </a:rPr>
              <a:t>Мета мого дослідженн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4000" spc="-1" strike="noStrike">
                <a:solidFill>
                  <a:srgbClr val="009900"/>
                </a:solidFill>
                <a:latin typeface="Comic Sans MS"/>
              </a:rPr>
              <a:t>Визначити в умовах шкільної лабораторії вміст вітаміну С за допомогою методики йодометричного титрування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652680"/>
            <a:ext cx="7467480" cy="1099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3300"/>
                </a:solidFill>
                <a:latin typeface="Comic Sans MS"/>
              </a:rPr>
              <a:t>Гіпотеза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69576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333cc"/>
                </a:solidFill>
                <a:latin typeface="Monotype Corsiva"/>
              </a:rPr>
              <a:t>Від нашого вибору залежить наше здоров'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76960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590920"/>
            <a:ext cx="17524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840" y="1981080"/>
            <a:ext cx="352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27360"/>
            <a:ext cx="7467480" cy="825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3300"/>
                </a:solidFill>
                <a:latin typeface="Comic Sans MS"/>
              </a:rPr>
              <a:t>Ідея дослідження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Comic Sans MS"/>
              </a:rPr>
              <a:t>Виявити, які плоди містять найбільшу кількість аскорбінової кисл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Comic Sans MS"/>
              </a:rPr>
              <a:t>Перевірити тверджен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Comic Sans MS"/>
              </a:rPr>
              <a:t>що при теплової обробці вміст вітаміну С зменшує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17520"/>
            <a:ext cx="74678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0066"/>
                </a:solidFill>
                <a:latin typeface="Comic Sans MS"/>
              </a:rPr>
              <a:t>Вітаміни в продуктах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371600"/>
            <a:ext cx="2951280" cy="1584360"/>
          </a:xfrm>
          <a:prstGeom prst="wedgeRoundRectCallout">
            <a:avLst>
              <a:gd name="adj1" fmla="val -78240"/>
              <a:gd name="adj2" fmla="val 30060"/>
              <a:gd name="adj3" fmla="val 16667"/>
            </a:avLst>
          </a:prstGeom>
          <a:solidFill>
            <a:srgbClr val="ffdf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ы, овощи,  молочные продукты ежедневно поставляют нам целый букет витами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4680"/>
            <a:ext cx="746748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3300"/>
                </a:solidFill>
                <a:latin typeface="Monotype Corsiva"/>
                <a:ea typeface="Times New Roman"/>
              </a:rPr>
              <a:t>Класифікація вітамінів</a:t>
            </a:r>
            <a:r>
              <a:rPr b="1" lang="uk-UA" sz="4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905120"/>
            <a:ext cx="2514600" cy="685800"/>
          </a:xfrm>
          <a:prstGeom prst="rect">
            <a:avLst/>
          </a:prstGeom>
          <a:solidFill>
            <a:srgbClr val="33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одорозчин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905120"/>
            <a:ext cx="2514600" cy="6858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Жиророзчин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895480"/>
            <a:ext cx="91440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895480"/>
            <a:ext cx="91440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809880"/>
            <a:ext cx="99072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Р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95480"/>
            <a:ext cx="91440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809880"/>
            <a:ext cx="91440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809880"/>
            <a:ext cx="914400" cy="76212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5562720"/>
            <a:ext cx="1447560" cy="76176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Біот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876920"/>
            <a:ext cx="1066680" cy="76176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562720"/>
            <a:ext cx="1447920" cy="761760"/>
          </a:xfrm>
          <a:prstGeom prst="ellipse">
            <a:avLst/>
          </a:prstGeom>
          <a:solidFill>
            <a:srgbClr val="66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Пантотен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кисло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00400"/>
            <a:ext cx="1067040" cy="914400"/>
          </a:xfrm>
          <a:prstGeom prst="ellipse">
            <a:avLst/>
          </a:prstGeom>
          <a:solidFill>
            <a:srgbClr val="cc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14800"/>
            <a:ext cx="2361960" cy="914400"/>
          </a:xfrm>
          <a:prstGeom prst="ellipse">
            <a:avLst/>
          </a:prstGeom>
          <a:solidFill>
            <a:srgbClr val="cc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a - карот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105520"/>
            <a:ext cx="1067040" cy="914400"/>
          </a:xfrm>
          <a:prstGeom prst="ellipse">
            <a:avLst/>
          </a:prstGeom>
          <a:solidFill>
            <a:srgbClr val="cc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200400"/>
            <a:ext cx="990360" cy="914400"/>
          </a:xfrm>
          <a:prstGeom prst="ellipse">
            <a:avLst/>
          </a:prstGeom>
          <a:solidFill>
            <a:srgbClr val="cc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105520"/>
            <a:ext cx="1143000" cy="914400"/>
          </a:xfrm>
          <a:prstGeom prst="ellipse">
            <a:avLst/>
          </a:prstGeom>
          <a:solidFill>
            <a:srgbClr val="cc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467840" cy="545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3300"/>
                </a:solidFill>
                <a:latin typeface="Monotype Corsiva"/>
              </a:rPr>
              <a:t>Нестача вітаміну </a:t>
            </a:r>
            <a:r>
              <a:rPr b="0" lang="uk-UA" sz="8800" spc="-1" strike="noStrike">
                <a:solidFill>
                  <a:srgbClr val="cc3300"/>
                </a:solidFill>
                <a:latin typeface="Monotype Corsiva"/>
              </a:rPr>
              <a:t>С </a:t>
            </a:r>
            <a:r>
              <a:rPr b="0" lang="uk-UA" sz="8800" spc="-1" strike="noStrike">
                <a:solidFill>
                  <a:srgbClr val="003300"/>
                </a:solidFill>
                <a:latin typeface="Monotype Corsiva"/>
              </a:rPr>
              <a:t>призводить до </a:t>
            </a:r>
            <a:r>
              <a:rPr b="0" lang="uk-UA" sz="8800" spc="-1" strike="noStrike">
                <a:solidFill>
                  <a:srgbClr val="cc3300"/>
                </a:solidFill>
                <a:latin typeface="Comic Sans MS"/>
              </a:rPr>
              <a:t>ЦИНГИ </a:t>
            </a:r>
            <a:r>
              <a:rPr b="0" lang="uk-UA" sz="8800" spc="-1" strike="noStrike">
                <a:solidFill>
                  <a:srgbClr val="003300"/>
                </a:solidFill>
                <a:latin typeface="Comic Sans MS"/>
              </a:rPr>
              <a:t>!!!</a:t>
            </a:r>
            <a:endParaRPr b="0" lang="en-US" sz="8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e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22440"/>
            <a:ext cx="7467840" cy="82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9900"/>
                </a:solidFill>
                <a:latin typeface="Comic Sans MS"/>
              </a:rPr>
              <a:t>Симптоми цинги: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Загальна слабк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Легка стомле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Мляв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Сонливість (особливо навесні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Серцева недостат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Знижується стійкість до захворюва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Сповільнюється загоєння р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Підсилюються склеротичні зміни в судин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Збільшується вміст холестерину в кров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Comic Sans MS"/>
              </a:rPr>
              <a:t>Виникають біль і кровотечі я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28:39Z</dcterms:created>
  <dc:creator>Ksyu</dc:creator>
  <dc:description/>
  <dc:language>en-US</dc:language>
  <cp:lastModifiedBy>Ksyu</cp:lastModifiedBy>
  <dcterms:modified xsi:type="dcterms:W3CDTF">2006-02-26T09:45:17Z</dcterms:modified>
  <cp:revision>20</cp:revision>
  <dc:subject/>
  <dc:title>Тема роботи</dc:title>
</cp:coreProperties>
</file>